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28.png" ContentType="image/png"/>
  <Override PartName="/ppt/media/image26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1.png" ContentType="image/png"/>
  <Override PartName="/ppt/media/image32.png" ContentType="image/png"/>
  <Override PartName="/ppt/media/image35.png" ContentType="image/png"/>
  <Override PartName="/ppt/media/image5.jpeg" ContentType="image/jpeg"/>
  <Override PartName="/ppt/media/image30.png" ContentType="image/png"/>
  <Override PartName="/ppt/media/image42.png" ContentType="image/png"/>
  <Override PartName="/ppt/media/image29.png" ContentType="image/png"/>
  <Override PartName="/ppt/media/image2.wmf" ContentType="image/x-wmf"/>
  <Override PartName="/ppt/media/image12.png" ContentType="image/png"/>
  <Override PartName="/ppt/media/image7.png" ContentType="image/png"/>
  <Override PartName="/ppt/media/image37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.wmf" ContentType="image/x-wmf"/>
  <Override PartName="/ppt/media/image1.jpeg" ContentType="image/jpeg"/>
  <Override PartName="/ppt/media/image10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  <p:sldId id="286" r:id="rId52"/>
    <p:sldId id="287" r:id="rId53"/>
    <p:sldId id="288" r:id="rId54"/>
    <p:sldId id="289" r:id="rId55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slide" Target="slides/slide31.xml"/><Relationship Id="rId53" Type="http://schemas.openxmlformats.org/officeDocument/2006/relationships/slide" Target="slides/slide32.xml"/><Relationship Id="rId54" Type="http://schemas.openxmlformats.org/officeDocument/2006/relationships/slide" Target="slides/slide33.xml"/><Relationship Id="rId55" Type="http://schemas.openxmlformats.org/officeDocument/2006/relationships/slide" Target="slides/slide34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dt" idx="2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 type="ftr" idx="22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PlaceHolder 6"/>
          <p:cNvSpPr>
            <a:spLocks noGrp="1"/>
          </p:cNvSpPr>
          <p:nvPr>
            <p:ph type="sldNum" idx="23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C03989B-83EE-43B7-A4F2-AAF57A68AA8B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8A32209-AAAE-4C86-9C34-FF0F275C013B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927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61427E6-38EF-447E-B155-EF0BEF0CA6AD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0AF63-3425-49BC-A30A-BF9479B42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8637A-A9EB-40AB-BA11-6A582E36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1FF405-8062-4F41-8AD3-04FDCE118B2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F1B184-B229-4CE3-95CD-F7E1687318DE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BDF4AC-47AD-4962-8F3B-27ADE2D777B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3B348D-AE88-4C57-A7E9-2D4B90200CE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07B766-5EDF-46E2-B59A-A1FA24AD56D5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A31433-AF98-4261-B585-ABD772964242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FF14C9-08B1-41B1-883A-88B3E2502D2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0F93A6E-4341-4FF5-BFA3-C717606CC18A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495D21A-B8A2-43C5-8179-AE80D37AC95D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A3A941E-13A8-4A29-960F-2FE7986728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332E9-9A51-4866-BFA7-1A3FA45AA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A67DC82-2A72-469B-B2C3-702656B6610D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BDDB56E-3698-4446-B1B6-831D98A4724E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E0BBB52-FDDA-43C2-BD2D-937386D11D1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CEA291-4566-4077-8AC6-DCBE6A01E68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E580DFF-770E-4A25-9398-E8DA170E526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083A38A-C4A6-41DA-B323-1EE76DE27AC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6414D1-9759-4A81-95E6-D549E78C462A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7A94EE2-4891-4CDA-B4E9-0D8D7B5730A1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09BBD7C-8289-4ECF-863E-C300CC2429FE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6C71E2D-74CC-42DD-BAC1-49414249F8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7D242-C1B5-4704-A168-1816BF083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9C3DC44-5756-4CA9-B7AA-88F24E2DBC15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155D54-D591-43C9-9EC7-1F8FEA14942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3B2FC-3D3A-4C1C-BB48-DD8020B93CC4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377807-3DC7-49BA-B456-CB5BDEF23713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5F3766-5953-4B13-989C-F987717EF563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F20CBC-5B8F-4B81-857F-14F4E632574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C489B7-48C3-498F-87E4-218B975CC76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A96BA1-992C-4B62-B393-368468207DAE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A44FBA-EE62-4B81-A4C8-82BD30B7DDA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71A233-A9C7-404E-ACE1-3E6DA008725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1FA4DA-B77E-4FCC-BD03-C4436C9A576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451FDF-8DB6-4E90-9B50-0ED1964FE12C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391686-A637-454C-B19B-56046D68F1CD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FAA521F-AB19-41A7-B352-63EDA97EF35F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2979B63-4EC9-4045-9B99-A53B0736874B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F5168A1-E085-4D6B-815E-BC0DD914DEF3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2D9B8A3-73FD-41A2-B05E-EF0E994C0C4C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784ADEE-B819-472B-B4C3-AB6E224CF00C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A4E1B6-0D1F-4E81-80B2-E4D6ECE326E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596C6CC-04E6-4917-9097-4CC987F6320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3678725-31AB-4E9E-9BDD-389CEA535681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99BD6F-14F5-41D6-90B9-C60C2DC46F5E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673FA79-02F7-4431-AA04-CA0402418A6C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BA4F5E-C46B-42F8-8228-675AB824AE6F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F1551EB-ECFB-4E6F-9020-F9F1124B115B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2767337-77FB-474D-9BBB-61AD387972E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8EC130-2D95-431F-97B9-8F0C2B5DE478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E45F39E-C636-49EC-B722-70E3822EB7E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43B9DE7-63EC-4EC9-8924-93A081277A8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C5206B-35B1-49E9-B1D6-604F794F5DB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77585A-F897-4C3C-A97E-EDE8148BDC2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2272C4-6BDC-49CD-AFD2-34376BBF5AB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E64F02-F276-4130-9A51-849D66A41E07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2426F8-27B2-4F89-924C-612148815A78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D17A1B9-4626-445C-9160-DB0D6EF4485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ED36464-FB8B-4D25-B5A0-D25D68D7D656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391EBC-AE14-493D-B50F-8642F063D2CA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08313-2706-4313-B6A1-BBE42C3BA75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A7ED53-450F-427B-AE5B-A34F958EE54E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5D6795-F03D-4D49-A795-A80415F1447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7211E4-FC9A-4715-97AA-B12455FEC0F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A261CA-5104-4EB8-97BA-6C8FD0D401F8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3AA65-B37F-4679-BCB2-58157356E3AF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B9D3C2-184A-44D9-A68C-EC10A939AC4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EBF4B6-AE66-4043-86FF-1E95000571D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3922A5-3F3B-4340-9323-EB9C8EBE99AA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50AAA0-0946-4EC4-BD49-035B49E89EA5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C53E2-CD95-4D9A-A4D5-BCC518BB2FA0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91211D-6527-49F2-BE2E-4879811E8303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720FB26-224D-4DBC-B0ED-5F114A8F3F7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F4ADDE6-7D3E-4941-9D90-47943BF97F2D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E26345B-A0A2-406C-B643-003B04E608E7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85EE2B-800A-4FDE-AA0B-213F2038F639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B91D873-168E-4D24-B189-38F0F3E77888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274E02-7B4C-413C-B250-1B62FC23BE4D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00FE907-C4AD-4134-B75E-B82741A109A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1E98A1F-2F37-41B9-8833-7C4BFB6D495C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59E9645-65F7-4B86-8D94-DE2B5D0DB794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F795283-8F78-4ACA-8EAE-D289AFC07B47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1CE463D-5AA2-4562-B465-37DE2E5E7B4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B66170-D965-4063-B1EF-1A247DEEDC6F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B3B0CE-4C9D-433B-B375-1D3A6B567CD2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2ACCAF-CB45-4F58-A5DC-9CC9FD38672D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A69488F-1141-4F78-9DEA-8CAB00CE268D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9F56119-FC52-46B7-BB2D-4FBC67A1EA99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B7A378A-9707-4B88-9096-F97F9B119BA4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790B8B7-9797-4D90-97A7-376281AA924D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69CD686-00ED-4130-AE82-D710C2851AEA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FAE0D3D-AA65-455F-BE63-3E94E509FFA0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70FA67-32FC-45FA-AC25-742663C0BF5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D6878E0-3646-47A7-B3D7-3DA808A81807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FA48D8-F547-4844-AD69-8E09DF06D604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3F3D05-848C-4D47-94A5-8FDFE2874B42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B04E-26C0-4159-9834-B3CF4185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61C519-7D58-4CE1-84A4-5422D6F22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57F9A3-31CB-4D91-A4FB-025E6B4B3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F05313B-E4CE-4DE9-8D28-B782BC55A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855FA3-5987-4B87-944A-C30C4F983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9C4A4F7-D403-4551-ACC6-AADB94300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6211CC3-63F1-4D67-B36C-D975398D0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958A03F-F1C5-4464-8EDB-094DC3649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B1E0F30-F66F-49AB-B11B-A12F16159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FC32757-8E48-4450-B68D-7929F96F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06B04A-ECDB-4C21-B76A-16D7F7978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C7EDDD5-2B21-42AB-BFFC-EAC9005BF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FCB6C03-0917-47D5-93B9-12A8DC9E7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82F0C7-E2FF-4A9A-B6AC-62B84A0A1C7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A60055-4E38-408B-9568-CFC671E9F6F0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A9FA14-D77E-47AA-88AF-AC32A5A7D4B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7E5700-946B-46D8-8BCA-3EF852457A6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D08680-7B4C-4E32-84AC-C648568A63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9A41-E5E5-41CC-9270-6A8094019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12EC93-B9CA-4B63-B9C8-F8C4CFBB5840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0D01C4-94CA-41DB-90BD-457A200271F2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0B63BD-B6D4-4ED3-BF7E-1EED163582D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676937D-C5B6-44C3-958A-20C720449FC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7FB8C0-1C23-40B3-8B50-A25A54ABF428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EC25AB-7BF4-4C97-8593-BDD3621D3445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4043A07-5EE5-4131-AA65-2BAA1EBF4FC3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79388E-605B-4E5A-8D6A-D8F984D36235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D3EA2FB-A6E0-4A0A-9CA6-DE3D1FB8CF6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FD9D5F-CA44-4F52-8DBE-DFF8AFD63A6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A9C4-191E-4D70-BA6E-4A6C58C06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4B53D3-96BB-4E99-ABF2-AA127C5C724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D85376-5C0D-465C-884A-FB5AAA2C557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522CBC-CA03-46AC-8A29-E77B9FEC0B1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DD3215-C88D-46D5-B894-CFC8F17716EF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226AE2-9276-4CEB-A588-D3475B9D1F1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EEBDC-7309-487F-8911-480FE90561A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42BD15-CE14-460B-911D-BCEB715E112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5532F3-91BC-4EF0-9A76-A2A35E82134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6BE870-C8F9-4871-90EA-6B4AB11983B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DCB9F-D43F-4AAA-940B-B170D697325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F865-BBF0-4B83-8236-DA418866A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FBF55-5E9A-4508-879E-87507299FF1B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E0FA8-CFCB-44E1-B912-A5C56B5AD7D3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B1AD3-831E-4D81-B739-7476C1636DD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79A3C-4467-4D6B-8E64-9F9593B5D590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576E-9A08-4923-A79B-2FCD048D57C7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F23EA-D1F6-4B59-ACC5-426735A7135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32E16-E05E-4A5E-85C0-66BF05B31C4D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5C788-0812-4C0C-93A5-EE447D204F0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7E745-CAF9-4BC4-82F9-AFF26A64C5C2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FFE31-66F1-47F4-8691-32021D53AC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92543-612A-4A1E-8F3B-697A718AB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9E682-91F2-45F6-8889-8DD559ECDCB5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55D9B7-75BF-44C8-9EDA-DA43FD8C5B1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4C902DE-3A8B-41FA-B83F-15CC307D7EF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CEC5D3-357E-48C6-A07F-49F68761E11A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48ECF4-1C4C-49CB-833E-071A7EE016F4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B65D4CB-CFDA-4CD6-83CC-9FAF672C4DE4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92F15D8-09F4-4F1D-A058-C785C10935DB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9F35D13-28FC-4084-9DB6-3E33EABDAC5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BBA0830-805D-4AEB-B9E5-CF2442E5E2FA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449B92-7BC3-45E7-88F0-1F2DB4AE6A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77D6-C4F6-4AE8-8B75-F3A0BCB0F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25FE9B9-6047-40FF-9AB9-B66CEADA618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0BF95A0-009C-4EB2-A715-234C8BE4C01B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CE08EED-48DA-40BF-96AE-AFDEE39C3CB1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44B9BA-85C2-488D-8B60-74BC34A5D69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0B9FE3-4C47-4E39-9A3B-525859AE4B0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1F48C0-D35F-40C2-9E94-682890CB5A28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387EA0-E0CD-45FC-BBB7-8FE9E95D8AE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4F49985-5B0A-4983-85F8-F4F9260824B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FE346D-523F-4DE4-ADBE-91D5CA42AFA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C704627-C7C4-474E-A32B-17296D4E3D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333D-12C4-4464-9735-B161EBADF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86BB7B-AC6C-4F3A-9D73-BBFCF028B9F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9586C89-1671-49B2-A116-0507AE1CD1F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77BB9B-4335-42B1-976B-CB3BA9F1A432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0F6721-BBDE-4BB7-8F5D-7E87B726273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30A752-39C3-49AC-81F7-C4556465F476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8ACC96-05F6-4E46-B2CA-2A1BF93C1E6C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07000-BE8A-447D-8830-CD3DC0298AE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9D5B8-AE14-4244-A6D7-2834FFE5D8B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F2B8F7-E065-4F5A-BBF2-8814F23E4FC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84B36-C231-4C86-8218-9808D3F2C1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1931-DD9F-48FC-A152-8AB25CA40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FA3494-BE62-43B5-BFD6-2B2F0A5D87FF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055E3-3A76-404E-A83A-D9E7A50DCE76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3F880-4D69-42FB-B070-128FC7CE0886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77BC0-FC15-45D9-96DA-68713BBA27B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75C85-21FB-47E9-8D68-5879619DB5EF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4E4AFE-83C2-4FCD-9510-5E49D138C2A0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5C0D3-A86B-469C-BEBC-6C9FD970155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8B989BC-4AD8-40AE-94E1-74AC8120DA8A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A9B625-8618-40A2-B640-D77673218B32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8BFA78-809B-4F2A-988F-F6130500F1C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45B7D72-9E77-42A6-B604-C862AECFF178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B18C74D-123D-45FA-9C2D-92EB39FDB360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9812DA8-2B78-4700-ADA5-46BF0FFF03A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3A4B08B-9CF5-49CA-8A01-260B1E41314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3F4A060-A859-4887-BE3D-DB13F85928F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4A2ECE7-8666-4A49-BCA5-1081A2D435D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A2B267A-B266-4792-BD1B-F4042320F01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CA09B5A-E627-4B11-8533-6D0E6D9EB3B6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3A5E628-8498-4A78-83AF-3FD3A506A6D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39FC2DC-B163-40A5-B379-5827164C22C3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59EC5BF-409A-4841-942F-5CD9C9B8FA6C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37021B7-C48A-4D25-974E-3991BD2C768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8B51C56-8F7A-4575-BA59-285FD1B1D7A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545986C-B79D-4B24-B9BA-04480AEA870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8CEDC4A-B1D6-46F2-A784-4F9C30B3D07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CE2D289-E5E5-4B39-85BC-C8F1D1669C9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6EB66AB-DB10-43F5-ACDA-C8939B5093F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9667E81-9B80-4375-82E0-0DC8F32488C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1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1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1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2141640" y="612360"/>
            <a:ext cx="6316560" cy="1639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800" spc="-1" strike="noStrike">
                <a:solidFill>
                  <a:srgbClr val="0070c0"/>
                </a:solidFill>
                <a:latin typeface="Verdana"/>
                <a:ea typeface="Verdana"/>
              </a:rPr>
              <a:t>Projektu pieteikumu aizpildīšanas seminārs </a:t>
            </a:r>
            <a:br>
              <a:rPr sz="1800"/>
            </a:br>
            <a:r>
              <a:rPr b="1" lang="lv-LV" sz="1800" spc="-1" strike="noStrike">
                <a:solidFill>
                  <a:srgbClr val="0070c0"/>
                </a:solidFill>
                <a:latin typeface="Verdana"/>
                <a:ea typeface="Verdana"/>
              </a:rPr>
              <a:t>Nordplus  Pieaugušo izglītības projektu iesniedzējiem</a:t>
            </a:r>
            <a:br>
              <a:rPr sz="2300"/>
            </a:b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1029960" y="2887560"/>
            <a:ext cx="765324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02060"/>
                </a:solidFill>
                <a:latin typeface="Verdana"/>
                <a:ea typeface="Verdana"/>
              </a:rPr>
              <a:t>Projektu pieteikumu sagatavošana un iesniegšana Espresso sistēmā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2238480" y="3833280"/>
            <a:ext cx="5829120" cy="66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2021.gada 15.janvārī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83" name="Text Placeholder 3"/>
          <p:cNvSpPr/>
          <p:nvPr/>
        </p:nvSpPr>
        <p:spPr>
          <a:xfrm flipV="1" rot="10800000">
            <a:off x="3795840" y="5058360"/>
            <a:ext cx="4868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VIAA Vadības un ārējās sadarbības departamen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https://espresso.si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5" name="Picture 1" descr=""/>
          <p:cNvPicPr/>
          <p:nvPr/>
        </p:nvPicPr>
        <p:blipFill>
          <a:blip r:embed="rId1"/>
          <a:stretch/>
        </p:blipFill>
        <p:spPr>
          <a:xfrm>
            <a:off x="2205000" y="1995480"/>
            <a:ext cx="5969160" cy="3481560"/>
          </a:xfrm>
          <a:prstGeom prst="rect">
            <a:avLst/>
          </a:prstGeom>
          <a:ln w="0">
            <a:noFill/>
          </a:ln>
        </p:spPr>
      </p:pic>
      <p:sp>
        <p:nvSpPr>
          <p:cNvPr id="816" name="Title 1"/>
          <p:cNvSpPr/>
          <p:nvPr/>
        </p:nvSpPr>
        <p:spPr>
          <a:xfrm>
            <a:off x="0" y="2984400"/>
            <a:ext cx="259092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Svarīgi! Pārdomājam, ar kādu e-pasta adresi reģistrēsimies!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9" name="Picture 2" descr=""/>
          <p:cNvPicPr/>
          <p:nvPr/>
        </p:nvPicPr>
        <p:blipFill>
          <a:blip r:embed="rId1"/>
          <a:stretch/>
        </p:blipFill>
        <p:spPr>
          <a:xfrm>
            <a:off x="2540160" y="1066680"/>
            <a:ext cx="6343560" cy="5397480"/>
          </a:xfrm>
          <a:prstGeom prst="rect">
            <a:avLst/>
          </a:prstGeom>
          <a:ln w="0">
            <a:noFill/>
          </a:ln>
        </p:spPr>
      </p:pic>
      <p:sp>
        <p:nvSpPr>
          <p:cNvPr id="820" name="Left Arrow 6"/>
          <p:cNvSpPr/>
          <p:nvPr/>
        </p:nvSpPr>
        <p:spPr>
          <a:xfrm rot="1692600">
            <a:off x="7183080" y="4373280"/>
            <a:ext cx="1720800" cy="552240"/>
          </a:xfrm>
          <a:prstGeom prst="leftArrow">
            <a:avLst>
              <a:gd name="adj1" fmla="val 50000"/>
              <a:gd name="adj2" fmla="val 54516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6" descr=""/>
          <p:cNvPicPr/>
          <p:nvPr/>
        </p:nvPicPr>
        <p:blipFill>
          <a:blip r:embed="rId2"/>
          <a:srcRect l="0" t="0" r="0" b="4418"/>
          <a:stretch/>
        </p:blipFill>
        <p:spPr>
          <a:xfrm>
            <a:off x="2741760" y="1457280"/>
            <a:ext cx="5719680" cy="4746600"/>
          </a:xfrm>
          <a:prstGeom prst="rect">
            <a:avLst/>
          </a:prstGeom>
          <a:ln w="0">
            <a:noFill/>
          </a:ln>
        </p:spPr>
      </p:pic>
      <p:sp>
        <p:nvSpPr>
          <p:cNvPr id="824" name="Title 1"/>
          <p:cNvSpPr/>
          <p:nvPr/>
        </p:nvSpPr>
        <p:spPr>
          <a:xfrm>
            <a:off x="0" y="2851200"/>
            <a:ext cx="259092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  <a:ea typeface="Verdana"/>
              </a:rPr>
              <a:t>Izvēlamies projekta veid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5" name="Straight Arrow Connector 9"/>
          <p:cNvCxnSpPr/>
          <p:nvPr/>
        </p:nvCxnSpPr>
        <p:spPr>
          <a:xfrm>
            <a:off x="2141280" y="3171600"/>
            <a:ext cx="60084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Picture 5" descr=""/>
          <p:cNvPicPr/>
          <p:nvPr/>
        </p:nvPicPr>
        <p:blipFill>
          <a:blip r:embed="rId1"/>
          <a:stretch/>
        </p:blipFill>
        <p:spPr>
          <a:xfrm>
            <a:off x="2479680" y="1504800"/>
            <a:ext cx="6458040" cy="5007240"/>
          </a:xfrm>
          <a:prstGeom prst="rect">
            <a:avLst/>
          </a:prstGeom>
          <a:ln w="0">
            <a:noFill/>
          </a:ln>
        </p:spPr>
      </p:pic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0" y="1942920"/>
            <a:ext cx="2209680" cy="23857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Varam dot iespēju kolēģiem no mūsu un partneru  organizācijām lasīt, vai papildināt un rediģēt tekst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8" name="Straight Arrow Connector 8"/>
          <p:cNvCxnSpPr/>
          <p:nvPr/>
        </p:nvCxnSpPr>
        <p:spPr>
          <a:xfrm>
            <a:off x="1569600" y="4199040"/>
            <a:ext cx="3002760" cy="800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29" name="Title 1"/>
          <p:cNvSpPr/>
          <p:nvPr/>
        </p:nvSpPr>
        <p:spPr>
          <a:xfrm>
            <a:off x="2590920" y="196920"/>
            <a:ext cx="60958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0" name="Picture 3" descr=""/>
          <p:cNvPicPr/>
          <p:nvPr/>
        </p:nvPicPr>
        <p:blipFill>
          <a:blip r:embed="rId1"/>
          <a:stretch/>
        </p:blipFill>
        <p:spPr>
          <a:xfrm>
            <a:off x="5148360" y="3705120"/>
            <a:ext cx="3848040" cy="2048040"/>
          </a:xfrm>
          <a:prstGeom prst="rect">
            <a:avLst/>
          </a:prstGeom>
          <a:ln w="0">
            <a:noFill/>
          </a:ln>
        </p:spPr>
      </p:pic>
      <p:pic>
        <p:nvPicPr>
          <p:cNvPr id="831" name="Picture 2" descr=""/>
          <p:cNvPicPr/>
          <p:nvPr/>
        </p:nvPicPr>
        <p:blipFill>
          <a:blip r:embed="rId2"/>
          <a:srcRect l="2692" t="0" r="3629" b="0"/>
          <a:stretch/>
        </p:blipFill>
        <p:spPr>
          <a:xfrm>
            <a:off x="77760" y="2251080"/>
            <a:ext cx="9163080" cy="1197000"/>
          </a:xfrm>
          <a:prstGeom prst="rect">
            <a:avLst/>
          </a:prstGeom>
          <a:ln w="0">
            <a:noFill/>
          </a:ln>
        </p:spPr>
      </p:pic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Ievadītā teksta saglabāš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3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34" name="Title 1"/>
          <p:cNvSpPr/>
          <p:nvPr/>
        </p:nvSpPr>
        <p:spPr>
          <a:xfrm>
            <a:off x="463680" y="4189320"/>
            <a:ext cx="259056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  <a:ea typeface="Verdana"/>
              </a:rPr>
              <a:t>Vienmēr nospiežam pēc informācijas ievadīšana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5" name="Straight Arrow Connector 9"/>
          <p:cNvCxnSpPr/>
          <p:nvPr/>
        </p:nvCxnSpPr>
        <p:spPr>
          <a:xfrm flipV="1">
            <a:off x="3446280" y="3958920"/>
            <a:ext cx="1867320" cy="134856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836" name="Title 1"/>
          <p:cNvSpPr/>
          <p:nvPr/>
        </p:nvSpPr>
        <p:spPr>
          <a:xfrm>
            <a:off x="2165400" y="5307120"/>
            <a:ext cx="2590920" cy="89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ff0000"/>
                </a:solidFill>
                <a:latin typeface="Verdana"/>
                <a:ea typeface="Verdana"/>
              </a:rPr>
              <a:t>Nekad nespiežam “Back” veidlapas aizpildīšanas gaitā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37" name="Straight Arrow Connector 12"/>
          <p:cNvCxnSpPr/>
          <p:nvPr/>
        </p:nvCxnSpPr>
        <p:spPr>
          <a:xfrm flipV="1">
            <a:off x="1874880" y="2763360"/>
            <a:ext cx="1650240" cy="142632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8" name="Picture 7" descr=""/>
          <p:cNvPicPr/>
          <p:nvPr/>
        </p:nvPicPr>
        <p:blipFill>
          <a:blip r:embed="rId1"/>
          <a:stretch/>
        </p:blipFill>
        <p:spPr>
          <a:xfrm>
            <a:off x="3533760" y="1017720"/>
            <a:ext cx="5610240" cy="5840280"/>
          </a:xfrm>
          <a:prstGeom prst="rect">
            <a:avLst/>
          </a:prstGeom>
          <a:ln w="0">
            <a:noFill/>
          </a:ln>
        </p:spPr>
      </p:pic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2768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epieciešams ievadīt informāciju par  partneru organizācijām Nordplus datubāzē (ja tās vēl nav reģistrētas datu bāzē!) 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1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Visām iesistītajām organizācijām sistēma ģenerē apliecinājuma vēstules, </a:t>
            </a:r>
            <a:r>
              <a:rPr b="1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kuras jāparaksta attiecīgo organizāciju/iestāžu paraksttiesīgajām personām, jāieskanē un jāpievieno pieteikumam </a:t>
            </a:r>
            <a:br>
              <a:rPr sz="1600"/>
            </a:br>
            <a:br>
              <a:rPr sz="1600"/>
            </a:br>
            <a:r>
              <a:rPr b="1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0" name="Straight Arrow Connector 10"/>
          <p:cNvCxnSpPr/>
          <p:nvPr/>
        </p:nvCxnSpPr>
        <p:spPr>
          <a:xfrm flipV="1">
            <a:off x="3098520" y="2094840"/>
            <a:ext cx="3005640" cy="9975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841" name="Straight Arrow Connector 12"/>
          <p:cNvCxnSpPr/>
          <p:nvPr/>
        </p:nvCxnSpPr>
        <p:spPr>
          <a:xfrm flipV="1">
            <a:off x="2819160" y="2095200"/>
            <a:ext cx="5329800" cy="15912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Picture 6" descr=""/>
          <p:cNvPicPr/>
          <p:nvPr/>
        </p:nvPicPr>
        <p:blipFill>
          <a:blip r:embed="rId1"/>
          <a:stretch/>
        </p:blipFill>
        <p:spPr>
          <a:xfrm>
            <a:off x="3510000" y="-204840"/>
            <a:ext cx="5359320" cy="3944880"/>
          </a:xfrm>
          <a:prstGeom prst="rect">
            <a:avLst/>
          </a:prstGeom>
          <a:ln w="0">
            <a:noFill/>
          </a:ln>
        </p:spPr>
      </p:pic>
      <p:pic>
        <p:nvPicPr>
          <p:cNvPr id="843" name="Picture 7" descr=""/>
          <p:cNvPicPr/>
          <p:nvPr/>
        </p:nvPicPr>
        <p:blipFill>
          <a:blip r:embed="rId2"/>
          <a:stretch/>
        </p:blipFill>
        <p:spPr>
          <a:xfrm>
            <a:off x="3510000" y="3157560"/>
            <a:ext cx="4883040" cy="3700440"/>
          </a:xfrm>
          <a:prstGeom prst="rect">
            <a:avLst/>
          </a:prstGeom>
          <a:ln w="0">
            <a:noFill/>
          </a:ln>
        </p:spPr>
      </p:pic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-151200" y="1666440"/>
            <a:ext cx="3660840" cy="26751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64960" indent="-17280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oteikti jāpārliecinās, vai partneru organizācija jau iepriekš nav reģistrēta Espresso sistēmā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ngļu valodā jāizmanto tāds partneru organizācijas nosaukums, kādu organizācija pati lieto.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! Pēc partneru datu ievadīšanas sistēma ģenerē </a:t>
            </a:r>
            <a:r>
              <a:rPr b="1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partneru apliecinājuma vēstules</a:t>
            </a: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, kuras jāizdrukā, jāparaksta, jāieskanē un jāpievieno projekta pieteikumem (skat. 6. sadaļu)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5" name="Straight Arrow Connector 9"/>
          <p:cNvCxnSpPr/>
          <p:nvPr/>
        </p:nvCxnSpPr>
        <p:spPr>
          <a:xfrm flipV="1">
            <a:off x="2850840" y="1166400"/>
            <a:ext cx="4537800" cy="7689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846" name="Straight Arrow Connector 11"/>
          <p:cNvCxnSpPr/>
          <p:nvPr/>
        </p:nvCxnSpPr>
        <p:spPr>
          <a:xfrm flipV="1">
            <a:off x="3003120" y="1463040"/>
            <a:ext cx="3590280" cy="624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847" name="Left Arrow 13"/>
          <p:cNvSpPr/>
          <p:nvPr/>
        </p:nvSpPr>
        <p:spPr>
          <a:xfrm rot="16200000">
            <a:off x="5309280" y="2648160"/>
            <a:ext cx="2614680" cy="355680"/>
          </a:xfrm>
          <a:prstGeom prst="leftArrow">
            <a:avLst>
              <a:gd name="adj1" fmla="val 50000"/>
              <a:gd name="adj2" fmla="val 5448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8" name="Picture 7" descr=""/>
          <p:cNvPicPr/>
          <p:nvPr/>
        </p:nvPicPr>
        <p:blipFill>
          <a:blip r:embed="rId1"/>
          <a:stretch/>
        </p:blipFill>
        <p:spPr>
          <a:xfrm>
            <a:off x="2359080" y="1227240"/>
            <a:ext cx="6784920" cy="5186160"/>
          </a:xfrm>
          <a:prstGeom prst="rect">
            <a:avLst/>
          </a:prstGeom>
          <a:ln w="0">
            <a:noFill/>
          </a:ln>
        </p:spPr>
      </p:pic>
      <p:cxnSp>
        <p:nvCxnSpPr>
          <p:cNvPr id="849" name="Straight Arrow Connector 9"/>
          <p:cNvCxnSpPr/>
          <p:nvPr/>
        </p:nvCxnSpPr>
        <p:spPr>
          <a:xfrm>
            <a:off x="1600200" y="3633840"/>
            <a:ext cx="953280" cy="11926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850" name="Title 1"/>
          <p:cNvSpPr/>
          <p:nvPr/>
        </p:nvSpPr>
        <p:spPr>
          <a:xfrm>
            <a:off x="-9360" y="2770200"/>
            <a:ext cx="256212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Varam izvēlēties </a:t>
            </a:r>
            <a:r>
              <a:rPr b="1" lang="lv-LV" sz="1800" spc="-1" strike="noStrike">
                <a:solidFill>
                  <a:srgbClr val="002060"/>
                </a:solidFill>
                <a:latin typeface="Verdana"/>
              </a:rPr>
              <a:t>tikai vienu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rojekta veidu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Attiecīgi – ja vēlamies gan mobilitātes, gan sadarbības projektu, jāiesniedz vairāki projekta pieteikum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657760" y="4826160"/>
            <a:ext cx="3268800" cy="637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64960"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 </a:t>
            </a: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Šai sadaļai jārada skaidrs priekšstats par projekta ieceri un nepieciešamīb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2" name="Straight Arrow Connector 11"/>
          <p:cNvCxnSpPr/>
          <p:nvPr/>
        </p:nvCxnSpPr>
        <p:spPr>
          <a:xfrm flipH="1">
            <a:off x="3180600" y="5092200"/>
            <a:ext cx="2826360" cy="4834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853" name="Straight Arrow Connector 6"/>
          <p:cNvCxnSpPr/>
          <p:nvPr/>
        </p:nvCxnSpPr>
        <p:spPr>
          <a:xfrm flipH="1">
            <a:off x="2831760" y="786960"/>
            <a:ext cx="2248560" cy="403956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854" name="Title 1"/>
          <p:cNvSpPr/>
          <p:nvPr/>
        </p:nvSpPr>
        <p:spPr>
          <a:xfrm>
            <a:off x="5079960" y="0"/>
            <a:ext cx="35892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Varam iesniegt arī pieteikumu sagatavošanas vizītei, lai sagatavotu projektu 2022. gada projektu konkursa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5" name="Picture 9" descr=""/>
          <p:cNvPicPr/>
          <p:nvPr/>
        </p:nvPicPr>
        <p:blipFill>
          <a:blip r:embed="rId1"/>
          <a:stretch/>
        </p:blipFill>
        <p:spPr>
          <a:xfrm>
            <a:off x="2928960" y="636480"/>
            <a:ext cx="5967360" cy="6221520"/>
          </a:xfrm>
          <a:prstGeom prst="rect">
            <a:avLst/>
          </a:prstGeom>
          <a:ln w="0">
            <a:noFill/>
          </a:ln>
        </p:spPr>
      </p:pic>
      <p:sp>
        <p:nvSpPr>
          <p:cNvPr id="856" name="Title 1"/>
          <p:cNvSpPr/>
          <p:nvPr/>
        </p:nvSpPr>
        <p:spPr>
          <a:xfrm>
            <a:off x="2590920" y="196920"/>
            <a:ext cx="60958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Par mobilitātes projekt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Title 1"/>
          <p:cNvSpPr/>
          <p:nvPr/>
        </p:nvSpPr>
        <p:spPr>
          <a:xfrm>
            <a:off x="-42840" y="2500200"/>
            <a:ext cx="2108160" cy="23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264960" indent="-17280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ff0000"/>
                </a:solidFill>
                <a:latin typeface="Verdana"/>
                <a:ea typeface="Verdana"/>
              </a:rPr>
              <a:t>Visiem aprakstiem jābūt izsmeļošiem, taču iespējami koncentrētie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8" name="Picture 2" descr=""/>
          <p:cNvPicPr/>
          <p:nvPr/>
        </p:nvPicPr>
        <p:blipFill>
          <a:blip r:embed="rId1"/>
          <a:stretch/>
        </p:blipFill>
        <p:spPr>
          <a:xfrm>
            <a:off x="3030480" y="690480"/>
            <a:ext cx="5689800" cy="5897520"/>
          </a:xfrm>
          <a:prstGeom prst="rect">
            <a:avLst/>
          </a:prstGeom>
          <a:ln w="0">
            <a:noFill/>
          </a:ln>
        </p:spPr>
      </p:pic>
      <p:sp>
        <p:nvSpPr>
          <p:cNvPr id="859" name="Title 1"/>
          <p:cNvSpPr/>
          <p:nvPr/>
        </p:nvSpPr>
        <p:spPr>
          <a:xfrm>
            <a:off x="0" y="3854520"/>
            <a:ext cx="2585880" cy="18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264960" indent="-17280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ff0000"/>
                </a:solidFill>
                <a:latin typeface="Verdana"/>
                <a:ea typeface="Verdana"/>
              </a:rPr>
              <a:t>Jānorāda iepriekšējie Nordplus projekti, kā arī citi Nordplus projektu iesniegumi šim konkursam (ja tādi ir)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0" name="Straight Arrow Connector 8"/>
          <p:cNvCxnSpPr/>
          <p:nvPr/>
        </p:nvCxnSpPr>
        <p:spPr>
          <a:xfrm>
            <a:off x="2585520" y="4830480"/>
            <a:ext cx="62172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072880" y="374760"/>
            <a:ext cx="6442200" cy="76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Verdana"/>
                <a:ea typeface="Verdana"/>
              </a:rPr>
              <a:t>  </a:t>
            </a:r>
            <a:r>
              <a:rPr b="1" lang="nb-NO" sz="32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3200" spc="-1" strike="noStrike">
                <a:solidFill>
                  <a:srgbClr val="0b7d91"/>
                </a:solidFill>
                <a:latin typeface="Verdana"/>
                <a:ea typeface="Verdana"/>
              </a:rPr>
              <a:t> 2021. gada projektu konkurss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2692440" y="1141560"/>
            <a:ext cx="6184800" cy="5233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31859c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31859c"/>
                </a:solidFill>
                <a:latin typeface="Calibri"/>
              </a:rPr>
              <a:t>2020.gada 1. novembrī</a:t>
            </a:r>
            <a:r>
              <a:rPr b="1" lang="lv-LV" sz="2600" spc="-1" strike="noStrike">
                <a:solidFill>
                  <a:srgbClr val="002060"/>
                </a:solidFill>
                <a:latin typeface="Calibri"/>
              </a:rPr>
              <a:t> izsludināts ikgadējais Nordplus projektu konkurss </a:t>
            </a:r>
            <a:r>
              <a:rPr b="0" lang="lv-LV" sz="2600" spc="-1" strike="noStrike">
                <a:solidFill>
                  <a:srgbClr val="002060"/>
                </a:solidFill>
                <a:latin typeface="Calibri"/>
              </a:rPr>
              <a:t>https://www.nordplusonline.org/calls/call-for-applications-round-1-february-2021/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ff0000"/>
                </a:solidFill>
                <a:latin typeface="Calibri"/>
              </a:rPr>
              <a:t>Projektu pieteikumu iesniegšanas termiņš</a:t>
            </a:r>
            <a:r>
              <a:rPr b="1" lang="lv-LV" sz="2600" spc="-1" strike="noStrike">
                <a:solidFill>
                  <a:srgbClr val="ff0000"/>
                </a:solidFill>
                <a:latin typeface="Calibri"/>
              </a:rPr>
              <a:t> - 2021. gada  1. februāris </a:t>
            </a:r>
            <a:r>
              <a:rPr b="0" lang="lv-LV" sz="2600" spc="-1" strike="noStrike">
                <a:solidFill>
                  <a:srgbClr val="ff0000"/>
                </a:solidFill>
                <a:latin typeface="Calibri"/>
              </a:rPr>
              <a:t>(plkst. 23:59 pēc Norvēģijas laika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6" name="Picture 3" descr=""/>
          <p:cNvPicPr/>
          <p:nvPr/>
        </p:nvPicPr>
        <p:blipFill>
          <a:blip r:embed="rId1"/>
          <a:stretch/>
        </p:blipFill>
        <p:spPr>
          <a:xfrm>
            <a:off x="146160" y="2209680"/>
            <a:ext cx="2628720" cy="22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1" name="Picture 2" descr=""/>
          <p:cNvPicPr/>
          <p:nvPr/>
        </p:nvPicPr>
        <p:blipFill>
          <a:blip r:embed="rId1"/>
          <a:stretch/>
        </p:blipFill>
        <p:spPr>
          <a:xfrm>
            <a:off x="3294000" y="0"/>
            <a:ext cx="5667480" cy="5745240"/>
          </a:xfrm>
          <a:prstGeom prst="rect">
            <a:avLst/>
          </a:prstGeom>
          <a:ln w="0">
            <a:noFill/>
          </a:ln>
        </p:spPr>
      </p:pic>
      <p:sp>
        <p:nvSpPr>
          <p:cNvPr id="862" name="Title 1"/>
          <p:cNvSpPr/>
          <p:nvPr/>
        </p:nvSpPr>
        <p:spPr>
          <a:xfrm>
            <a:off x="250920" y="1866960"/>
            <a:ext cx="258588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264960" indent="-17280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etvert to, kas attiecas uz pieaugušo izglītīb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3" name="Straight Arrow Connector 8"/>
          <p:cNvCxnSpPr/>
          <p:nvPr/>
        </p:nvCxnSpPr>
        <p:spPr>
          <a:xfrm>
            <a:off x="2982960" y="3733560"/>
            <a:ext cx="62100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64" name="TextBox 7"/>
          <p:cNvSpPr/>
          <p:nvPr/>
        </p:nvSpPr>
        <p:spPr>
          <a:xfrm>
            <a:off x="0" y="3071880"/>
            <a:ext cx="3147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Iespējami konkrēti jānorāda partnera uzdevumi, komunikāciju kanāli (Skype, ZOOM...) un regularitā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TextBox 8"/>
          <p:cNvSpPr/>
          <p:nvPr/>
        </p:nvSpPr>
        <p:spPr>
          <a:xfrm>
            <a:off x="55440" y="4307040"/>
            <a:ext cx="2781360" cy="2376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lv-LV" sz="1500" spc="-1" strike="noStrike">
                <a:solidFill>
                  <a:srgbClr val="ff0000"/>
                </a:solidFill>
                <a:latin typeface="Verdana"/>
              </a:rPr>
              <a:t>Šī ir ļoti būtiska sadaļa – jāparāda paredzamā projekta ietekme uz partneru organizācijām. Kā projekta aktivitātes ir saistītas ar pieaugušo izglītotājaikdiena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ff0000"/>
                </a:solidFill>
                <a:latin typeface="Verdana"/>
              </a:rPr>
              <a:t>darbu? Jāapraksta rezultātu ilgtspēj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6" name="Straight Arrow Connector 11"/>
          <p:cNvCxnSpPr/>
          <p:nvPr/>
        </p:nvCxnSpPr>
        <p:spPr>
          <a:xfrm>
            <a:off x="2673360" y="2552400"/>
            <a:ext cx="93096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67" name="Straight Arrow Connector 13"/>
          <p:cNvCxnSpPr/>
          <p:nvPr/>
        </p:nvCxnSpPr>
        <p:spPr>
          <a:xfrm>
            <a:off x="2825280" y="5273280"/>
            <a:ext cx="62172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8" name="Picture 2" descr=""/>
          <p:cNvPicPr/>
          <p:nvPr/>
        </p:nvPicPr>
        <p:blipFill>
          <a:blip r:embed="rId1"/>
          <a:stretch/>
        </p:blipFill>
        <p:spPr>
          <a:xfrm>
            <a:off x="2903400" y="0"/>
            <a:ext cx="5639040" cy="5992920"/>
          </a:xfrm>
          <a:prstGeom prst="rect">
            <a:avLst/>
          </a:prstGeom>
          <a:ln w="0">
            <a:noFill/>
          </a:ln>
        </p:spPr>
      </p:pic>
      <p:sp>
        <p:nvSpPr>
          <p:cNvPr id="869" name="TextBox 7"/>
          <p:cNvSpPr/>
          <p:nvPr/>
        </p:nvSpPr>
        <p:spPr>
          <a:xfrm>
            <a:off x="297000" y="2176560"/>
            <a:ext cx="2438280" cy="260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Jāsniedz detalizēts paredzamo rezultātu aprakst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Iespējami konkrēti jānorāda informācijas izplatīšanas kanāli (weblapas, plašsaziņas līdzekļi, iespējamie pasākumi)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Reālistiski novērtēšanas pasākumi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0" name="Picture 2" descr=""/>
          <p:cNvPicPr/>
          <p:nvPr/>
        </p:nvPicPr>
        <p:blipFill>
          <a:blip r:embed="rId1"/>
          <a:stretch/>
        </p:blipFill>
        <p:spPr>
          <a:xfrm>
            <a:off x="298440" y="498600"/>
            <a:ext cx="8545680" cy="5257800"/>
          </a:xfrm>
          <a:prstGeom prst="rect">
            <a:avLst/>
          </a:prstGeom>
          <a:ln w="0">
            <a:noFill/>
          </a:ln>
        </p:spPr>
      </p:pic>
      <p:sp>
        <p:nvSpPr>
          <p:cNvPr id="871" name="Left Arrow 3"/>
          <p:cNvSpPr/>
          <p:nvPr/>
        </p:nvSpPr>
        <p:spPr>
          <a:xfrm rot="2480400">
            <a:off x="831600" y="3328560"/>
            <a:ext cx="1008000" cy="355680"/>
          </a:xfrm>
          <a:prstGeom prst="leftArrow">
            <a:avLst>
              <a:gd name="adj1" fmla="val 50000"/>
              <a:gd name="adj2" fmla="val 54476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Picture 2" descr=""/>
          <p:cNvPicPr/>
          <p:nvPr/>
        </p:nvPicPr>
        <p:blipFill>
          <a:blip r:embed="rId1"/>
          <a:stretch/>
        </p:blipFill>
        <p:spPr>
          <a:xfrm>
            <a:off x="417600" y="1774800"/>
            <a:ext cx="8421480" cy="4172040"/>
          </a:xfrm>
          <a:prstGeom prst="rect">
            <a:avLst/>
          </a:prstGeom>
          <a:ln w="0">
            <a:noFill/>
          </a:ln>
        </p:spPr>
      </p:pic>
      <p:sp>
        <p:nvSpPr>
          <p:cNvPr id="873" name="TextBox 7"/>
          <p:cNvSpPr/>
          <p:nvPr/>
        </p:nvSpPr>
        <p:spPr>
          <a:xfrm>
            <a:off x="4602240" y="2873520"/>
            <a:ext cx="365112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0" lang="lv-LV" sz="1700" spc="-1" strike="noStrike">
                <a:solidFill>
                  <a:srgbClr val="ff0000"/>
                </a:solidFill>
                <a:latin typeface="Verdana"/>
              </a:rPr>
              <a:t>Katram braucienam aizpildām pieprasīto informāciju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itle 1"/>
          <p:cNvSpPr/>
          <p:nvPr/>
        </p:nvSpPr>
        <p:spPr>
          <a:xfrm>
            <a:off x="2590920" y="196920"/>
            <a:ext cx="60958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Par mobilitātes projekt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0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6" name="Picture 5" descr=""/>
          <p:cNvPicPr/>
          <p:nvPr/>
        </p:nvPicPr>
        <p:blipFill>
          <a:blip r:embed="rId1"/>
          <a:srcRect l="0" t="0" r="0" b="13698"/>
          <a:stretch/>
        </p:blipFill>
        <p:spPr>
          <a:xfrm>
            <a:off x="0" y="-166680"/>
            <a:ext cx="8056440" cy="3284640"/>
          </a:xfrm>
          <a:prstGeom prst="rect">
            <a:avLst/>
          </a:prstGeom>
          <a:ln w="0">
            <a:noFill/>
          </a:ln>
        </p:spPr>
      </p:pic>
      <p:sp>
        <p:nvSpPr>
          <p:cNvPr id="877" name="TextBox 8"/>
          <p:cNvSpPr/>
          <p:nvPr/>
        </p:nvSpPr>
        <p:spPr>
          <a:xfrm>
            <a:off x="312840" y="3117960"/>
            <a:ext cx="494172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ff0000"/>
                </a:solidFill>
                <a:latin typeface="Verdana"/>
              </a:rPr>
              <a:t>Aizpildot mobilitāšu tabulu, atbilstošais budžets aizpildās automātiski, saskaņā ar Nordplus likmēm (skat. Roksagrāmatu 2021, 48.-52.lpp)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8" name="Picture 6" descr=""/>
          <p:cNvPicPr/>
          <p:nvPr/>
        </p:nvPicPr>
        <p:blipFill>
          <a:blip r:embed="rId2"/>
          <a:srcRect l="0" t="13611" r="0" b="0"/>
          <a:stretch/>
        </p:blipFill>
        <p:spPr>
          <a:xfrm>
            <a:off x="0" y="4410000"/>
            <a:ext cx="7710480" cy="2632320"/>
          </a:xfrm>
          <a:prstGeom prst="rect">
            <a:avLst/>
          </a:prstGeom>
          <a:ln w="0">
            <a:noFill/>
          </a:ln>
        </p:spPr>
      </p:pic>
      <p:cxnSp>
        <p:nvCxnSpPr>
          <p:cNvPr id="879" name="Straight Arrow Connector 7"/>
          <p:cNvCxnSpPr/>
          <p:nvPr/>
        </p:nvCxnSpPr>
        <p:spPr>
          <a:xfrm flipV="1">
            <a:off x="5277960" y="2928600"/>
            <a:ext cx="1321200" cy="5896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880" name="Straight Arrow Connector 9"/>
          <p:cNvCxnSpPr>
            <a:stCxn id="877" idx="3"/>
          </p:cNvCxnSpPr>
          <p:nvPr/>
        </p:nvCxnSpPr>
        <p:spPr>
          <a:xfrm>
            <a:off x="5254200" y="3687480"/>
            <a:ext cx="2026440" cy="27946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Title 1"/>
          <p:cNvSpPr/>
          <p:nvPr/>
        </p:nvSpPr>
        <p:spPr>
          <a:xfrm>
            <a:off x="2590920" y="196920"/>
            <a:ext cx="6095880" cy="103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Par sadarbības projekt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2" name="Picture 7" descr=""/>
          <p:cNvPicPr/>
          <p:nvPr/>
        </p:nvPicPr>
        <p:blipFill>
          <a:blip r:embed="rId1"/>
          <a:stretch/>
        </p:blipFill>
        <p:spPr>
          <a:xfrm>
            <a:off x="6600960" y="652320"/>
            <a:ext cx="2543040" cy="1162080"/>
          </a:xfrm>
          <a:prstGeom prst="rect">
            <a:avLst/>
          </a:prstGeom>
          <a:ln w="0">
            <a:noFill/>
          </a:ln>
        </p:spPr>
      </p:pic>
      <p:sp>
        <p:nvSpPr>
          <p:cNvPr id="883" name="TextBox 7"/>
          <p:cNvSpPr/>
          <p:nvPr/>
        </p:nvSpPr>
        <p:spPr>
          <a:xfrm>
            <a:off x="2131920" y="1241280"/>
            <a:ext cx="314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Ja atzīmējam 3. sadaļā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4" name="Straight Arrow Connector 9"/>
          <p:cNvCxnSpPr/>
          <p:nvPr/>
        </p:nvCxnSpPr>
        <p:spPr>
          <a:xfrm flipV="1">
            <a:off x="5279760" y="1571400"/>
            <a:ext cx="1321200" cy="8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885" name="Picture 8" descr=""/>
          <p:cNvPicPr/>
          <p:nvPr/>
        </p:nvPicPr>
        <p:blipFill>
          <a:blip r:embed="rId2"/>
          <a:srcRect l="0" t="0" r="36436" b="5190"/>
          <a:stretch/>
        </p:blipFill>
        <p:spPr>
          <a:xfrm>
            <a:off x="4707000" y="2309760"/>
            <a:ext cx="4437000" cy="4548240"/>
          </a:xfrm>
          <a:prstGeom prst="rect">
            <a:avLst/>
          </a:prstGeom>
          <a:ln w="0">
            <a:noFill/>
          </a:ln>
        </p:spPr>
      </p:pic>
      <p:sp>
        <p:nvSpPr>
          <p:cNvPr id="886" name="TextBox 7"/>
          <p:cNvSpPr/>
          <p:nvPr/>
        </p:nvSpPr>
        <p:spPr>
          <a:xfrm>
            <a:off x="0" y="2784600"/>
            <a:ext cx="31827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Sadaļa 4.1. nedaudz atšķirā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Par sadarbības projektu veidiem  (</a:t>
            </a:r>
            <a:r>
              <a:rPr b="0" i="1" lang="lv-LV" sz="1600" spc="-1" strike="noStrike">
                <a:solidFill>
                  <a:srgbClr val="002060"/>
                </a:solidFill>
                <a:latin typeface="Verdana"/>
              </a:rPr>
              <a:t>Thematic network, development, mapping</a:t>
            </a: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) – skat. Rokasgrāmatu, 46. – 48. lpp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Sadaļas 4.2. un 4.3. ir tādas pašas, kā mobilitātes projekta gadījumā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7" name="Straight Arrow Connector 15"/>
          <p:cNvCxnSpPr/>
          <p:nvPr/>
        </p:nvCxnSpPr>
        <p:spPr>
          <a:xfrm flipV="1">
            <a:off x="3182400" y="4553640"/>
            <a:ext cx="1321200" cy="90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8" name="Picture 10" descr=""/>
          <p:cNvPicPr/>
          <p:nvPr/>
        </p:nvPicPr>
        <p:blipFill>
          <a:blip r:embed="rId1"/>
          <a:srcRect l="0" t="0" r="25043" b="7409"/>
          <a:stretch/>
        </p:blipFill>
        <p:spPr>
          <a:xfrm>
            <a:off x="3711600" y="3089160"/>
            <a:ext cx="5424480" cy="3768840"/>
          </a:xfrm>
          <a:prstGeom prst="rect">
            <a:avLst/>
          </a:prstGeom>
          <a:ln w="0">
            <a:noFill/>
          </a:ln>
        </p:spPr>
      </p:pic>
      <p:pic>
        <p:nvPicPr>
          <p:cNvPr id="889" name="Picture 9" descr=""/>
          <p:cNvPicPr/>
          <p:nvPr/>
        </p:nvPicPr>
        <p:blipFill>
          <a:blip r:embed="rId2"/>
          <a:stretch/>
        </p:blipFill>
        <p:spPr>
          <a:xfrm>
            <a:off x="2332080" y="982800"/>
            <a:ext cx="6202440" cy="1981080"/>
          </a:xfrm>
          <a:prstGeom prst="rect">
            <a:avLst/>
          </a:prstGeom>
          <a:ln w="0">
            <a:noFill/>
          </a:ln>
        </p:spPr>
      </p:pic>
      <p:sp>
        <p:nvSpPr>
          <p:cNvPr id="890" name="Title 1"/>
          <p:cNvSpPr/>
          <p:nvPr/>
        </p:nvSpPr>
        <p:spPr>
          <a:xfrm>
            <a:off x="1657440" y="289080"/>
            <a:ext cx="7478640" cy="93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Verdana"/>
              </a:rPr>
              <a:t>Sadarbības projekta vai tīkla gadījumā jāaizpilda atsevišķa (MS Excel) budžeta veidl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1" name="Straight Arrow Connector 10"/>
          <p:cNvCxnSpPr/>
          <p:nvPr/>
        </p:nvCxnSpPr>
        <p:spPr>
          <a:xfrm>
            <a:off x="5206680" y="1506240"/>
            <a:ext cx="1080" cy="17866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92" name="Title 1"/>
          <p:cNvSpPr/>
          <p:nvPr/>
        </p:nvSpPr>
        <p:spPr>
          <a:xfrm>
            <a:off x="0" y="3451320"/>
            <a:ext cx="2562120" cy="20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! MS Excel 2007 un vecākas vesrijas neatbalsta dažas budžeta veidlapas funkcijas!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3" name="Straight Arrow Connector 16"/>
          <p:cNvCxnSpPr/>
          <p:nvPr/>
        </p:nvCxnSpPr>
        <p:spPr>
          <a:xfrm>
            <a:off x="2314440" y="4317480"/>
            <a:ext cx="6220800" cy="8787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Title 1"/>
          <p:cNvSpPr/>
          <p:nvPr/>
        </p:nvSpPr>
        <p:spPr>
          <a:xfrm>
            <a:off x="0" y="1587600"/>
            <a:ext cx="381168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Automatiski tiek aprēķinātas admin. izmak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Title 1"/>
          <p:cNvSpPr/>
          <p:nvPr/>
        </p:nvSpPr>
        <p:spPr>
          <a:xfrm>
            <a:off x="1657440" y="493560"/>
            <a:ext cx="718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lv-LV" sz="2000" spc="-1" strike="noStrike">
                <a:solidFill>
                  <a:srgbClr val="002060"/>
                </a:solidFill>
                <a:latin typeface="Verdana"/>
              </a:rPr>
              <a:t>Budžeta veidla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6" name="Picture 6" descr=""/>
          <p:cNvPicPr/>
          <p:nvPr/>
        </p:nvPicPr>
        <p:blipFill>
          <a:blip r:embed="rId1"/>
          <a:stretch/>
        </p:blipFill>
        <p:spPr>
          <a:xfrm>
            <a:off x="4349880" y="1130400"/>
            <a:ext cx="4151160" cy="3200400"/>
          </a:xfrm>
          <a:prstGeom prst="rect">
            <a:avLst/>
          </a:prstGeom>
          <a:ln w="0">
            <a:noFill/>
          </a:ln>
        </p:spPr>
      </p:pic>
      <p:pic>
        <p:nvPicPr>
          <p:cNvPr id="897" name="Picture 7" descr=""/>
          <p:cNvPicPr/>
          <p:nvPr/>
        </p:nvPicPr>
        <p:blipFill>
          <a:blip r:embed="rId2"/>
          <a:stretch/>
        </p:blipFill>
        <p:spPr>
          <a:xfrm>
            <a:off x="826920" y="4572000"/>
            <a:ext cx="8317080" cy="2286000"/>
          </a:xfrm>
          <a:prstGeom prst="rect">
            <a:avLst/>
          </a:prstGeom>
          <a:ln w="0">
            <a:noFill/>
          </a:ln>
        </p:spPr>
      </p:pic>
      <p:sp>
        <p:nvSpPr>
          <p:cNvPr id="898" name="Title 1"/>
          <p:cNvSpPr/>
          <p:nvPr/>
        </p:nvSpPr>
        <p:spPr>
          <a:xfrm>
            <a:off x="246240" y="2476440"/>
            <a:ext cx="3811320" cy="86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Darba dienu apmaksas aprēķins tiek veikts automātiski pēc dalībvalsts un darba dienu skaita ievadīšanas </a:t>
            </a:r>
            <a:r>
              <a:rPr b="1" lang="lv-LV" sz="1800" spc="-1" strike="noStrike">
                <a:solidFill>
                  <a:srgbClr val="002060"/>
                </a:solidFill>
                <a:latin typeface="Verdana"/>
              </a:rPr>
              <a:t>saskaņā ar Nordplus PI likmēm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(Rokasgrāmata, 51.lp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99" name="Straight Arrow Connector 9"/>
          <p:cNvCxnSpPr/>
          <p:nvPr/>
        </p:nvCxnSpPr>
        <p:spPr>
          <a:xfrm>
            <a:off x="3187440" y="2044440"/>
            <a:ext cx="4229640" cy="8643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900" name="Straight Arrow Connector 12"/>
          <p:cNvCxnSpPr/>
          <p:nvPr/>
        </p:nvCxnSpPr>
        <p:spPr>
          <a:xfrm>
            <a:off x="3811320" y="3708360"/>
            <a:ext cx="4849920" cy="1473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Title 1"/>
          <p:cNvSpPr/>
          <p:nvPr/>
        </p:nvSpPr>
        <p:spPr>
          <a:xfrm>
            <a:off x="804960" y="4894200"/>
            <a:ext cx="3811320" cy="174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ēc  visas informācijas ievadīšanas Excel veidlapa automātiski aprēķina kopējo budžetu. Tas jāieraksta Espresso budžeta sadaļā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2" name="Picture 2" descr=""/>
          <p:cNvPicPr/>
          <p:nvPr/>
        </p:nvPicPr>
        <p:blipFill>
          <a:blip r:embed="rId1"/>
          <a:stretch/>
        </p:blipFill>
        <p:spPr>
          <a:xfrm>
            <a:off x="244440" y="149400"/>
            <a:ext cx="8744040" cy="2263680"/>
          </a:xfrm>
          <a:prstGeom prst="rect">
            <a:avLst/>
          </a:prstGeom>
          <a:ln w="0">
            <a:noFill/>
          </a:ln>
        </p:spPr>
      </p:pic>
      <p:sp>
        <p:nvSpPr>
          <p:cNvPr id="903" name="Title 1"/>
          <p:cNvSpPr/>
          <p:nvPr/>
        </p:nvSpPr>
        <p:spPr>
          <a:xfrm>
            <a:off x="804960" y="2755800"/>
            <a:ext cx="3811320" cy="120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ēc  apmeklējamās valsts, pasākuma veida un braucēju skaita ievadīšanas tiek automātiski aprēķināts starptautisko braucienu budžet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4" name="Straight Arrow Connector 9"/>
          <p:cNvCxnSpPr/>
          <p:nvPr/>
        </p:nvCxnSpPr>
        <p:spPr>
          <a:xfrm flipV="1">
            <a:off x="4349880" y="672840"/>
            <a:ext cx="4388040" cy="2404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pic>
        <p:nvPicPr>
          <p:cNvPr id="905" name="Picture 3" descr=""/>
          <p:cNvPicPr/>
          <p:nvPr/>
        </p:nvPicPr>
        <p:blipFill>
          <a:blip r:embed="rId2"/>
          <a:stretch/>
        </p:blipFill>
        <p:spPr>
          <a:xfrm>
            <a:off x="4616280" y="3254400"/>
            <a:ext cx="4527720" cy="3603600"/>
          </a:xfrm>
          <a:prstGeom prst="rect">
            <a:avLst/>
          </a:prstGeom>
          <a:ln w="0">
            <a:noFill/>
          </a:ln>
        </p:spPr>
      </p:pic>
      <p:cxnSp>
        <p:nvCxnSpPr>
          <p:cNvPr id="906" name="Straight Arrow Connector 14"/>
          <p:cNvCxnSpPr/>
          <p:nvPr/>
        </p:nvCxnSpPr>
        <p:spPr>
          <a:xfrm flipV="1">
            <a:off x="3841920" y="3796560"/>
            <a:ext cx="4629600" cy="1097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7" name="Picture 7" descr=""/>
          <p:cNvPicPr/>
          <p:nvPr/>
        </p:nvPicPr>
        <p:blipFill>
          <a:blip r:embed="rId1"/>
          <a:stretch/>
        </p:blipFill>
        <p:spPr>
          <a:xfrm>
            <a:off x="719280" y="961920"/>
            <a:ext cx="8421480" cy="5181840"/>
          </a:xfrm>
          <a:prstGeom prst="rect">
            <a:avLst/>
          </a:prstGeom>
          <a:ln w="0">
            <a:noFill/>
          </a:ln>
        </p:spPr>
      </p:pic>
      <p:sp>
        <p:nvSpPr>
          <p:cNvPr id="908" name="Title 1"/>
          <p:cNvSpPr/>
          <p:nvPr/>
        </p:nvSpPr>
        <p:spPr>
          <a:xfrm>
            <a:off x="1657440" y="493560"/>
            <a:ext cx="718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1" lang="lv-LV" sz="2000" spc="-1" strike="noStrike">
                <a:solidFill>
                  <a:srgbClr val="002060"/>
                </a:solidFill>
                <a:latin typeface="Verdana"/>
              </a:rPr>
              <a:t>Bankas rekvizīt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Title 1"/>
          <p:cNvSpPr/>
          <p:nvPr/>
        </p:nvSpPr>
        <p:spPr>
          <a:xfrm>
            <a:off x="4664160" y="2163600"/>
            <a:ext cx="3206520" cy="200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Ja projektu atbalstīs, grantu pārskaitīs uz šo kont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Konts var būt jebkurā bankā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Title 1"/>
          <p:cNvSpPr/>
          <p:nvPr/>
        </p:nvSpPr>
        <p:spPr>
          <a:xfrm>
            <a:off x="4930920" y="5719680"/>
            <a:ext cx="3206520" cy="113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Organizācijas iekšējais identifikators (ja tādu finanšu vadības sistēma izmant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1" name="Straight Arrow Connector 11"/>
          <p:cNvCxnSpPr/>
          <p:nvPr/>
        </p:nvCxnSpPr>
        <p:spPr>
          <a:xfrm flipH="1" flipV="1">
            <a:off x="1866600" y="5380920"/>
            <a:ext cx="3458160" cy="7628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7" name="Picture 7" descr=""/>
          <p:cNvPicPr/>
          <p:nvPr/>
        </p:nvPicPr>
        <p:blipFill>
          <a:blip r:embed="rId1"/>
          <a:stretch/>
        </p:blipFill>
        <p:spPr>
          <a:xfrm>
            <a:off x="3243240" y="3103560"/>
            <a:ext cx="5619600" cy="3705120"/>
          </a:xfrm>
          <a:prstGeom prst="rect">
            <a:avLst/>
          </a:prstGeom>
          <a:ln w="0">
            <a:noFill/>
          </a:ln>
        </p:spPr>
      </p:pic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70c0"/>
                </a:solidFill>
                <a:latin typeface="Verdana"/>
                <a:ea typeface="Verdana"/>
              </a:rPr>
              <a:t>Nordplus video materiāli</a:t>
            </a:r>
            <a:br>
              <a:rPr sz="2000"/>
            </a:br>
            <a:r>
              <a:rPr b="1" lang="lv-LV" sz="2000" spc="-1" strike="noStrike">
                <a:solidFill>
                  <a:srgbClr val="0070c0"/>
                </a:solidFill>
                <a:latin typeface="Verdana"/>
                <a:ea typeface="Verdana"/>
              </a:rPr>
              <a:t>Espresso sistēmas lietošanas instrukcija Nordplus Jauniešu programmai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 txBox="1"/>
          <p:nvPr/>
        </p:nvSpPr>
        <p:spPr>
          <a:xfrm>
            <a:off x="277920" y="2049480"/>
            <a:ext cx="8408880" cy="1054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https://viaa.gov.lv/lat/nordplus/nordplus_informativie_izdevumi/#vide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Title 1"/>
          <p:cNvSpPr/>
          <p:nvPr/>
        </p:nvSpPr>
        <p:spPr>
          <a:xfrm>
            <a:off x="-266760" y="3743280"/>
            <a:ext cx="259092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  <a:ea typeface="Verdana"/>
              </a:rPr>
              <a:t>Aicinām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  <a:ea typeface="Verdana"/>
              </a:rPr>
              <a:t>noskatīties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1" name="Straight Arrow Connector 5"/>
          <p:cNvCxnSpPr/>
          <p:nvPr/>
        </p:nvCxnSpPr>
        <p:spPr>
          <a:xfrm>
            <a:off x="1758960" y="4188960"/>
            <a:ext cx="1645200" cy="10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2" name="Picture 6" descr=""/>
          <p:cNvPicPr/>
          <p:nvPr/>
        </p:nvPicPr>
        <p:blipFill>
          <a:blip r:embed="rId1"/>
          <a:stretch/>
        </p:blipFill>
        <p:spPr>
          <a:xfrm>
            <a:off x="2289240" y="971640"/>
            <a:ext cx="6245280" cy="2419200"/>
          </a:xfrm>
          <a:prstGeom prst="rect">
            <a:avLst/>
          </a:prstGeom>
          <a:ln w="0">
            <a:noFill/>
          </a:ln>
        </p:spPr>
      </p:pic>
      <p:sp>
        <p:nvSpPr>
          <p:cNvPr id="91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9857EA6-8F2F-49D4-9645-A57C5FBE7E3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Title 1"/>
          <p:cNvSpPr/>
          <p:nvPr/>
        </p:nvSpPr>
        <p:spPr>
          <a:xfrm>
            <a:off x="100080" y="2928960"/>
            <a:ext cx="2232000" cy="279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ff0000"/>
                </a:solidFill>
                <a:latin typeface="Verdana"/>
              </a:rPr>
              <a:t>Obligāti jāpievieno budžets un parakstītas visu partneru un koordinatora  apliecinājuma vēstules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5" name="Straight Arrow Connector 6"/>
          <p:cNvCxnSpPr/>
          <p:nvPr/>
        </p:nvCxnSpPr>
        <p:spPr>
          <a:xfrm flipV="1">
            <a:off x="2371320" y="2928600"/>
            <a:ext cx="2823480" cy="19850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Title 1"/>
          <p:cNvSpPr/>
          <p:nvPr/>
        </p:nvSpPr>
        <p:spPr>
          <a:xfrm>
            <a:off x="0" y="1943280"/>
            <a:ext cx="247644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irms iesniegšanas jāpārbauda vai ir pievienoti visi pielikumi utt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Sistēma nepieļauj iesniegt daļēji aizpildītu pieteikum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17" name="Straight Arrow Connector 5"/>
          <p:cNvCxnSpPr/>
          <p:nvPr/>
        </p:nvCxnSpPr>
        <p:spPr>
          <a:xfrm>
            <a:off x="2025360" y="4282920"/>
            <a:ext cx="1873800" cy="9612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pic>
        <p:nvPicPr>
          <p:cNvPr id="918" name="Picture 6" descr=""/>
          <p:cNvPicPr/>
          <p:nvPr/>
        </p:nvPicPr>
        <p:blipFill>
          <a:blip r:embed="rId1"/>
          <a:stretch/>
        </p:blipFill>
        <p:spPr>
          <a:xfrm>
            <a:off x="2911320" y="468360"/>
            <a:ext cx="5408640" cy="3397320"/>
          </a:xfrm>
          <a:prstGeom prst="rect">
            <a:avLst/>
          </a:prstGeom>
          <a:ln w="0">
            <a:noFill/>
          </a:ln>
        </p:spPr>
      </p:pic>
      <p:pic>
        <p:nvPicPr>
          <p:cNvPr id="919" name="Picture 7" descr=""/>
          <p:cNvPicPr/>
          <p:nvPr/>
        </p:nvPicPr>
        <p:blipFill>
          <a:blip r:embed="rId2"/>
          <a:stretch/>
        </p:blipFill>
        <p:spPr>
          <a:xfrm>
            <a:off x="4052880" y="3686040"/>
            <a:ext cx="50911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Verdana"/>
                <a:ea typeface="Verdana"/>
              </a:rPr>
              <a:t>Kā tiek vērtēts projekta pieteikums?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1" name=""/>
          <p:cNvGraphicFramePr/>
          <p:nvPr/>
        </p:nvGraphicFramePr>
        <p:xfrm>
          <a:off x="1076400" y="1844640"/>
          <a:ext cx="7453080" cy="4383000"/>
        </p:xfrm>
        <a:graphic>
          <a:graphicData uri="http://schemas.openxmlformats.org/drawingml/2006/table">
            <a:tbl>
              <a:tblPr/>
              <a:tblGrid>
                <a:gridCol w="590400"/>
                <a:gridCol w="5580000"/>
                <a:gridCol w="1282680"/>
              </a:tblGrid>
              <a:tr h="2430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000" spc="-1" strike="noStrike">
                          <a:solidFill>
                            <a:srgbClr val="000000"/>
                          </a:solidFill>
                          <a:latin typeface="Arial-BoldMT"/>
                          <a:ea typeface="Calibri"/>
                        </a:rPr>
                        <a:t>Relev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Rang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 what extent does the project comply with the overall Nordplus objectives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 what extent does the project comply with the general framework of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Nordplus Adult and its actions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 what extent does the project involve adult education and learning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 what extent is the projected targeted a specified group of adult learners or/and educators and staff engaged in adult education and learning?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i="1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tal points Relev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0-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0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000" spc="-1" strike="noStrike">
                          <a:solidFill>
                            <a:srgbClr val="000000"/>
                          </a:solidFill>
                          <a:latin typeface="Arial-BoldMT"/>
                          <a:ea typeface="Calibri"/>
                        </a:rPr>
                        <a:t>Project objectives and cont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2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 aims of the project and the approach chosen to achieve them are clear and realist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5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 planned activities are relevant for the project in question and cover the whole project perio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1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Budget is well described and realisti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832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i="1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tal points Project objectives and conte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0-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70c0"/>
                </a:solidFill>
                <a:latin typeface="Verdana"/>
                <a:ea typeface="Verdana"/>
              </a:rPr>
              <a:t>Kā tiek vērtēts projekta pieteikum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3" name=""/>
          <p:cNvGraphicFramePr/>
          <p:nvPr/>
        </p:nvGraphicFramePr>
        <p:xfrm>
          <a:off x="1778040" y="1273320"/>
          <a:ext cx="7159680" cy="4898880"/>
        </p:xfrm>
        <a:graphic>
          <a:graphicData uri="http://schemas.openxmlformats.org/drawingml/2006/table">
            <a:tbl>
              <a:tblPr/>
              <a:tblGrid>
                <a:gridCol w="566640"/>
                <a:gridCol w="5359320"/>
                <a:gridCol w="1233720"/>
              </a:tblGrid>
              <a:tr h="22068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000" spc="-1" strike="noStrike">
                          <a:solidFill>
                            <a:srgbClr val="000000"/>
                          </a:solidFill>
                          <a:latin typeface="Arial-BoldMT"/>
                          <a:ea typeface="Calibri"/>
                        </a:rPr>
                        <a:t>Organisation and implementation capac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re is a clear and realistic overall plan for implementing the projec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9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re is an appropriate balance between the roles and tasks of the different participants in terms of their involvement in the activities to be carried ou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Measures have been planned to ensure effective communication and cooperation between the participating institution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 expected impact and benefits of the project on participating institutions and individual participants are clear and well defin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i="1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tal points Organisation and implementation capacit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0-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000" spc="-1" strike="noStrike">
                          <a:solidFill>
                            <a:srgbClr val="000000"/>
                          </a:solidFill>
                          <a:latin typeface="Arial-BoldMT"/>
                          <a:ea typeface="Calibri"/>
                        </a:rPr>
                        <a:t>Dissemination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re are descriptions of expected results on different level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20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3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Depending on activity and sub-programme, there is a plan for spreading positive results from the cooperation through websites or publications through appropriate channels, to whom and why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re is a common project website (can be part of partner institution website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413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1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here are plans for how to exploit the results among the participating institutions on a long-term basi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i="1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Total points Dissemination and utilisation of resul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000" spc="-1" strike="noStrike">
                          <a:solidFill>
                            <a:srgbClr val="000000"/>
                          </a:solidFill>
                          <a:latin typeface="ArialMT"/>
                          <a:ea typeface="Calibri"/>
                        </a:rPr>
                        <a:t>0-5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9240">
                <a:tc gridSpan="2"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000" spc="-1" strike="noStrike">
                          <a:solidFill>
                            <a:srgbClr val="000000"/>
                          </a:solidFill>
                          <a:latin typeface="Arial-BoldMT"/>
                          <a:ea typeface="Calibri"/>
                        </a:rPr>
                        <a:t>Total number of poin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7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"/>
          <p:cNvSpPr txBox="1"/>
          <p:nvPr/>
        </p:nvSpPr>
        <p:spPr>
          <a:xfrm>
            <a:off x="1393560" y="116676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Jautājumu gadījumā lūdzu sazinā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Skype: linards.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frank.krohn@siu.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5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Semināra mērķ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1804680" y="1252440"/>
            <a:ext cx="7078680" cy="3805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 algn="just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600" spc="-1" strike="noStrike">
                <a:solidFill>
                  <a:srgbClr val="002060"/>
                </a:solidFill>
                <a:latin typeface="Calibri"/>
                <a:ea typeface="Verdana"/>
              </a:rPr>
              <a:t>Pievērst projektu sagatavotāju uzmanību būtiskākajiem tehniskajiem un  saturiskajiem jautājumiem projekta pieteikuma sagatavošanas un iesniegšanas procesā Nordplus elektroniskajā sistēmā Espresso https://espresso.diku.no/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2060"/>
                </a:solidFill>
                <a:latin typeface="Calibri"/>
                <a:ea typeface="Verdana"/>
              </a:rPr>
              <a:t>Uzsvari prezentācijā balstās uz novērojumiem 2020.gada projektu pieteikumu izvērtēšanas procesā, kā arī uz iepriekš saņemtajiem projektu iesniedzēju jautājumiem 2019. un 2020. gadā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 algn="just">
              <a:lnSpc>
                <a:spcPct val="80000"/>
              </a:lnSpc>
              <a:spcBef>
                <a:spcPts val="649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4" name="Picture 2" descr=""/>
          <p:cNvPicPr/>
          <p:nvPr/>
        </p:nvPicPr>
        <p:blipFill>
          <a:blip r:embed="rId1"/>
          <a:srcRect l="0" t="0" r="0" b="23658"/>
          <a:stretch/>
        </p:blipFill>
        <p:spPr>
          <a:xfrm>
            <a:off x="985680" y="4917960"/>
            <a:ext cx="7602840" cy="11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Vispārīgā informācija par Espresso sistēm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1778040" y="1252440"/>
            <a:ext cx="710568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 algn="just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Espresso sistēmas uzturētājs ir Norvēģijas Augstākās izglītības kvalitātes paaugstināšanas un starptautiskās sadarbības aģentūra  DIKU  (</a:t>
            </a:r>
            <a:r>
              <a:rPr b="0" i="1" lang="nn-NO" sz="3000" spc="-1" strike="noStrike">
                <a:solidFill>
                  <a:srgbClr val="002060"/>
                </a:solidFill>
                <a:latin typeface="Calibri"/>
                <a:ea typeface="Verdana"/>
              </a:rPr>
              <a:t>Direktoratet for internasjonalisering og kvalitetsutvikling i høgare utdanning</a:t>
            </a: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https://diku.n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Picture 1" descr=""/>
          <p:cNvPicPr/>
          <p:nvPr/>
        </p:nvPicPr>
        <p:blipFill>
          <a:blip r:embed="rId1"/>
          <a:stretch/>
        </p:blipFill>
        <p:spPr>
          <a:xfrm>
            <a:off x="5762520" y="4641840"/>
            <a:ext cx="27529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am ir jābūt zināmam  projekta pieteikuma iesniegšanas brīdī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1758600" y="1775880"/>
            <a:ext cx="7124760" cy="3038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Kurā apakšprogrammā (</a:t>
            </a:r>
            <a:r>
              <a:rPr b="0" i="1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Junior, Adult, Horisontal...</a:t>
            </a: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) paredzēts iesniegt projektu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Kas būs projekta partneri?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Projekta ideja – ko un kāpēc plānots darīt, kādi būs iespējamie rezultāti un ietekm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2"/>
          <p:cNvSpPr/>
          <p:nvPr/>
        </p:nvSpPr>
        <p:spPr>
          <a:xfrm>
            <a:off x="3699000" y="266760"/>
            <a:ext cx="504036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2800" spc="-1" strike="noStrike">
                <a:solidFill>
                  <a:srgbClr val="1f4e79"/>
                </a:solidFill>
                <a:latin typeface="Calibri"/>
              </a:rPr>
              <a:t> </a:t>
            </a:r>
            <a:r>
              <a:rPr b="0" i="1" lang="lv-LV" sz="2800" spc="-1" strike="noStrike">
                <a:solidFill>
                  <a:srgbClr val="1f4e79"/>
                </a:solidFill>
                <a:latin typeface="Calibri"/>
              </a:rPr>
              <a:t>Nordplus Rokasgrāmata 2021</a:t>
            </a:r>
            <a:r>
              <a:rPr b="0" lang="lv-LV" sz="2800" spc="-1" strike="noStrike">
                <a:solidFill>
                  <a:srgbClr val="1f4e79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1f4e79"/>
                </a:solidFill>
                <a:latin typeface="Calibri"/>
              </a:rPr>
              <a:t> </a:t>
            </a:r>
            <a:r>
              <a:rPr b="0" lang="lv-LV" sz="2800" spc="-1" strike="noStrike">
                <a:solidFill>
                  <a:srgbClr val="1f4e79"/>
                </a:solidFill>
                <a:latin typeface="Calibri"/>
              </a:rPr>
              <a:t>42. – 53. lpp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6"/>
          <p:cNvSpPr/>
          <p:nvPr/>
        </p:nvSpPr>
        <p:spPr>
          <a:xfrm>
            <a:off x="600120" y="6359400"/>
            <a:ext cx="775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Arial"/>
                <a:ea typeface="Arial"/>
              </a:rPr>
              <a:t>https://www.nordplusonline.org/how-to-apply/handbook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3" name="Picture 2" descr=""/>
          <p:cNvPicPr/>
          <p:nvPr/>
        </p:nvPicPr>
        <p:blipFill>
          <a:blip r:embed="rId1"/>
          <a:srcRect l="0" t="0" r="0" b="3114"/>
          <a:stretch/>
        </p:blipFill>
        <p:spPr>
          <a:xfrm>
            <a:off x="574560" y="266760"/>
            <a:ext cx="3124440" cy="414324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6" descr=""/>
          <p:cNvPicPr/>
          <p:nvPr/>
        </p:nvPicPr>
        <p:blipFill>
          <a:blip r:embed="rId2"/>
          <a:stretch/>
        </p:blipFill>
        <p:spPr>
          <a:xfrm>
            <a:off x="5103720" y="1380960"/>
            <a:ext cx="3635640" cy="484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AD62F55-4D9B-4BA8-A4B5-CD045D112FF4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6" name="Picture 2" descr=""/>
          <p:cNvPicPr/>
          <p:nvPr/>
        </p:nvPicPr>
        <p:blipFill>
          <a:blip r:embed="rId1"/>
          <a:stretch/>
        </p:blipFill>
        <p:spPr>
          <a:xfrm>
            <a:off x="0" y="1527120"/>
            <a:ext cx="8732880" cy="5194440"/>
          </a:xfrm>
          <a:prstGeom prst="rect">
            <a:avLst/>
          </a:prstGeom>
          <a:ln w="0">
            <a:noFill/>
          </a:ln>
        </p:spPr>
      </p:pic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208080" y="0"/>
            <a:ext cx="8935920" cy="1233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 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https://www.nordplusonline.org/how-to-apply/guidelines/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https://espresso.si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0" name="Picture 2" descr=""/>
          <p:cNvPicPr/>
          <p:nvPr/>
        </p:nvPicPr>
        <p:blipFill>
          <a:blip r:embed="rId1"/>
          <a:stretch/>
        </p:blipFill>
        <p:spPr>
          <a:xfrm>
            <a:off x="2490840" y="2160720"/>
            <a:ext cx="5838840" cy="3316320"/>
          </a:xfrm>
          <a:prstGeom prst="rect">
            <a:avLst/>
          </a:prstGeom>
          <a:ln w="0">
            <a:noFill/>
          </a:ln>
        </p:spPr>
      </p:pic>
      <p:sp>
        <p:nvSpPr>
          <p:cNvPr id="811" name="Left Arrow 6"/>
          <p:cNvSpPr/>
          <p:nvPr/>
        </p:nvSpPr>
        <p:spPr>
          <a:xfrm rot="1692600">
            <a:off x="7089480" y="4576320"/>
            <a:ext cx="1720800" cy="552600"/>
          </a:xfrm>
          <a:prstGeom prst="leftArrow">
            <a:avLst>
              <a:gd name="adj1" fmla="val 50000"/>
              <a:gd name="adj2" fmla="val 5448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Title 1"/>
          <p:cNvSpPr/>
          <p:nvPr/>
        </p:nvSpPr>
        <p:spPr>
          <a:xfrm>
            <a:off x="0" y="2984400"/>
            <a:ext cx="259092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  <a:ea typeface="Verdana"/>
              </a:rPr>
              <a:t>Reģistrācija Espress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D</cp:lastModifiedBy>
  <cp:lastPrinted>2019-09-03T09:59:12Z</cp:lastPrinted>
  <dcterms:modified xsi:type="dcterms:W3CDTF">2021-01-15T16:51:56Z</dcterms:modified>
  <cp:revision>239</cp:revision>
  <dc:subject/>
  <dc:title>PowerPoint Presentation</dc:title>
</cp:coreProperties>
</file>